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195B-6FA0-49C1-8665-0D5171FEB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1007-609E-4ED0-8B6B-67420D1DAA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7A9A-AF9C-44CC-A8CA-667E311FC4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C7AB-FC47-4897-BDF9-BAD239E5A8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8373-690F-4417-B4A9-F99E708AC0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E52D-A4E9-46F4-ACF9-265E8C6DAE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FD1-F951-4168-ADAD-B1BDC177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EAB-526A-4311-8CEC-C5E432F5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B6F1-266E-48DC-9DF4-07D21FE7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F40-0458-4A59-AD74-6BBB88AF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F66A-F9C5-46AA-85B5-154714D4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B954-4960-47B8-94EC-BAC95A58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0969-196B-4153-AE0F-DFD3B540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A68B-5523-4BC6-B252-E75116B6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B93F-B22A-4B92-90D5-B3662568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05D2-67CE-44D6-A118-0187F0C6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2302-01C0-4691-B7B7-7D546A25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D32-5DF9-4C9C-8D4C-6C8A5824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8E41-C9C3-445F-B44E-B4C2B7CE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4E57-ED79-4E1E-AEA5-B48DE4B3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7209-4B4E-4AA9-91B1-4207F6CB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C30C-4EF5-4DE2-9E0A-0F4F8527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FC0A-241A-4D8B-871E-68331F0B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4EE-167D-4CB2-B85B-32339E70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2DF-D8FB-4A1B-8F47-0C431158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436-5CEF-465B-AF45-6E018066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535-5BC5-4B91-850B-C575F46D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BFC-7617-4F0C-AAC6-E6A06EA9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C65-B0FD-4E4E-9048-AC96186A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B94-9373-4944-94D7-60FB9968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F3CA-3F9B-4A4A-91EF-218261712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74E3-3215-41A4-B84E-0A244610DF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ps &amp; Senate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How many members are in the Sen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971800" y="2705040"/>
            <a:ext cx="304812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185760"/>
            <a:ext cx="914400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What is the term for a member of the House of Representativ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1828800" y="2805120"/>
            <a:ext cx="485928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109440"/>
            <a:ext cx="573732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o is the Senate Majority Leader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3048120" y="3276720"/>
            <a:ext cx="27972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at is the job of the Party WHIP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2209680" y="1905120"/>
            <a:ext cx="4195800" cy="41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95400"/>
            <a:ext cx="9144000" cy="28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at position is next in line for the Presidency AFTER the speaker of the Hous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2819520" y="3084480"/>
            <a:ext cx="3314520" cy="37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2-21T17:16:01Z</dcterms:modified>
  <cp:revision>131</cp:revision>
  <dc:subject/>
  <dc:title>D/O: TO EXPLAIN AND IDENTIFY PROBLEMS OF ECONOMICS</dc:title>
</cp:coreProperties>
</file>